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CC59-049F-4CEF-8A4A-E62241B1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98B-301F-4509-9808-80175752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89B-4617-4C11-A83C-CB71EDE1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304E-1659-4AD1-85AD-D34B44C6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7627-28AE-437A-ACF0-4F5970B6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88C5-7D3D-43F0-9472-42C7C398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7810-7071-45AF-97F1-C235F1B1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06A9-D63E-49E0-B8CE-AA85686A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F2A4-BB52-4171-A10E-D8881081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3EC2-D178-4886-A9A6-F4793E7E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621C-30C7-4A74-B36B-9B1126E6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2B7-FD2E-4CC1-9852-2BB18E9F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7D4E-1373-4C6A-A9F1-DB428C43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8EEC-A0C2-4484-881A-27BA84D8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275B-2B13-4700-BF74-514F82E2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ECD8-7A12-4C69-A60A-FAFDE3D4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CB59-AFD4-4382-8C6A-2224D46C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0E1-42AE-4928-8C53-0241EADA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C46-3089-4ACD-86A7-24E1AFCC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5471-F85C-4410-8EA7-1446CE4C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EA0-684A-490A-AF48-B10CB0DD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2EC-A4E8-45AF-8E6C-ACF44FE0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70B-9519-4B1F-A92A-727D527B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1AC6-912E-4F69-9436-6C4CAACA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9320" cy="6929280"/>
            <a:chOff x="0" y="0"/>
            <a:chExt cx="9139320" cy="69292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7720" cy="31226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8000" cy="254160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8320" cy="149220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39720" cy="189216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5200" cy="35928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3920" cy="238932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0600" cy="127476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4920" cy="16524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6840" cy="11779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39320" cy="5284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6200" cy="32083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398760" cy="28321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4880" cy="37512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7200" cy="30654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B422E-47ED-46DD-AB9F-FFB59190D5F9}" type="slidenum">
              <a:rPr b="0" lang="es-E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39320" cy="6929280"/>
            <a:chOff x="0" y="0"/>
            <a:chExt cx="9139320" cy="69292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7720" cy="31226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8000" cy="254160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8320" cy="149220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39720" cy="189216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5200" cy="35928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3920" cy="238932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0600" cy="127476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4920" cy="16524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6840" cy="11779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39320" cy="5284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6200" cy="32083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398760" cy="28321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4880" cy="37512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7200" cy="30654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EFCA1F1-6732-42DC-ADB1-18652CDEC5A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ADECUACIÓN (I)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628640"/>
          <a:ext cx="8128080" cy="4621320"/>
        </p:xfrm>
        <a:graphic>
          <a:graphicData uri="http://schemas.openxmlformats.org/drawingml/2006/table">
            <a:tbl>
              <a:tblPr/>
              <a:tblGrid>
                <a:gridCol w="2989080"/>
                <a:gridCol w="2781360"/>
                <a:gridCol w="2357640"/>
              </a:tblGrid>
              <a:tr h="42732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SGOS FORM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GISTR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65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pografía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tipo de letra, negrita, cur-siva, etc.)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tografí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posición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már-genes, espaciados, columnas,…)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ágenes y signos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speciales (numera-ción, emoticonos, etc)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ación entre emisor y receptor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jefe-empleado, profesor-alumno, padres-hijos)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cunstancias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 que se produce la comunicación: formal e informal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nción comunicativa: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one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lar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gu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gume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d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ADECUACIÓN (II)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7280" y="1628640"/>
          <a:ext cx="8502840" cy="4537080"/>
        </p:xfrm>
        <a:graphic>
          <a:graphicData uri="http://schemas.openxmlformats.org/drawingml/2006/table">
            <a:tbl>
              <a:tblPr/>
              <a:tblGrid>
                <a:gridCol w="3176640"/>
                <a:gridCol w="3094200"/>
                <a:gridCol w="2232000"/>
              </a:tblGrid>
              <a:tr h="4550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SGOS FORM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GISTR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0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rnos de palabr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laboración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tre emisor y receptor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ocimiento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del mund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ximidad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cerca-nía o distancia emo-cional)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hablado, es-crito, en un SMS, en un foro de internet, etc.)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one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lar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gu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gume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d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COHERENCIA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4000" y="1628640"/>
          <a:ext cx="8642160" cy="4824720"/>
        </p:xfrm>
        <a:graphic>
          <a:graphicData uri="http://schemas.openxmlformats.org/drawingml/2006/table">
            <a:tbl>
              <a:tblPr/>
              <a:tblGrid>
                <a:gridCol w="1977840"/>
                <a:gridCol w="1749600"/>
                <a:gridCol w="2178000"/>
                <a:gridCol w="2736720"/>
              </a:tblGrid>
              <a:tr h="3956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UCTU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56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eccionar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 que quere-mos comuni-ca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ganizar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a infor- mación de acuerdo con nuestro propósit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dad temática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todos los enuncia-dos. Un eje temático, sin  des-viarnos de nuestro objetivo.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ógica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los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unciados; sin  contradic-cion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 y je-rarquía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las ideas, desde las más gene-rales a las más particulare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1100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matical: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y que tener en cuen-ta las normas gra-maticales de la len-gua emplead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1100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éxica: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bemos emplear un léxico, variado, preciso y adecuado a la te-mática del texto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COHESIÓN (I)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1628640"/>
          <a:ext cx="8643960" cy="4829400"/>
        </p:xfrm>
        <a:graphic>
          <a:graphicData uri="http://schemas.openxmlformats.org/drawingml/2006/table">
            <a:tbl>
              <a:tblPr/>
              <a:tblGrid>
                <a:gridCol w="3960720"/>
                <a:gridCol w="4683240"/>
              </a:tblGrid>
              <a:tr h="4820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ÍCTI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ÉXI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34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nombres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sonales, demostrativos, indefinidos, posesivos,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terminantes: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tículos, posesivos, demostrativos,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verbios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tiempo, lu-gar, modo,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petición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palabras idénticas o de la misma clase gramatical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stitución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palabras por otras de significado equivalente o próxim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ipsis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 omisión de palabras que se sobreentienden por el contexto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A COHESIÓN (II) </a:t>
            </a:r>
            <a:br>
              <a:rPr sz="2400"/>
            </a:b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9280" y="1413000"/>
          <a:ext cx="8454960" cy="4968720"/>
        </p:xfrm>
        <a:graphic>
          <a:graphicData uri="http://schemas.openxmlformats.org/drawingml/2006/table">
            <a:tbl>
              <a:tblPr/>
              <a:tblGrid>
                <a:gridCol w="2521080"/>
                <a:gridCol w="3394080"/>
                <a:gridCol w="2539800"/>
              </a:tblGrid>
              <a:tr h="3956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XTOS ORAL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gridSpan="2"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XTOS ORALES Y ESCRITO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ECTORES DE FUNCIÓN FÁTICA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MOD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ECT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GANIZAD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8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rteza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aro,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erdo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e,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ticipación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ye,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laración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eno,...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ición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emás, también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raste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o, en cambio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jeción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nque, a pesar de que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usa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que, ya que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ecuencia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lo tanto, por consiguiente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laración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ejemplo, es decir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empo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mero, luego,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rteza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supuesto, natu-ralmente,…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dición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, siempre y cuando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apertura: </a:t>
                      </a: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 empezar, en primer lugar,…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1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distribución: </a:t>
                      </a: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una parte, por otra (parte),…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cierre: </a:t>
                      </a: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 de-finitiva, por último,…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9:38:06Z</dcterms:created>
  <dc:creator>Guillermo</dc:creator>
  <dc:description/>
  <dc:language>en-US</dc:language>
  <cp:lastModifiedBy>Guillermo</cp:lastModifiedBy>
  <dcterms:modified xsi:type="dcterms:W3CDTF">2014-07-19T06:58:13Z</dcterms:modified>
  <cp:revision>18</cp:revision>
  <dc:subject/>
  <dc:title>ADECUACIÓN Textos orales y escritos </dc:title>
</cp:coreProperties>
</file>